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B4D-74D6-4FAE-BD97-AF717C9E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6A7-3585-4419-9E12-0E9724BC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045-3CD6-4CFF-896B-DDE6A7D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9DB-33F4-4A7F-962D-370E37DF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E82-ED3A-4CED-9288-31761B1E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894-90ED-4709-B839-E80A1FDC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FE2-F763-4DC8-9F9E-01E5F486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782-51C5-4132-AFC4-2AF321F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A44-2B83-4865-9554-10D6C145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20F-ED98-49EC-8A96-BEA19FC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2A6-7F1F-4313-8028-C65DBF9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058-5D5F-46AB-9978-1D942F5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AEB1FA-FDEC-4A62-AC3B-19F649C6F02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El Portfolio Europeo de las Lenguas</a:t>
            </a:r>
            <a:br>
              <a:rPr sz="2800"/>
            </a:br>
            <a:br>
              <a:rPr sz="900"/>
            </a:br>
            <a:r>
              <a:rPr b="1" i="1" lang="en-GB" sz="2400" spc="-1" strike="noStrike">
                <a:solidFill>
                  <a:srgbClr val="66ff33"/>
                </a:solidFill>
                <a:latin typeface="Century Gothic"/>
              </a:rPr>
              <a:t>Autoevaluación y Descriptor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707920"/>
            <a:ext cx="705636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Taller para Centros Bilíngü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y Escuelas Oficiales de Idio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(CEP de Málaga, Marzo 2008)</a:t>
            </a: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08464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Robert 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5661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http://robseville.blog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Century Gothic"/>
              </a:rPr>
              <a:t>La autoevaluación es un </a:t>
            </a:r>
            <a:r>
              <a:rPr b="1" i="1" lang="en-GB" sz="2800" spc="-1" strike="noStrike">
                <a:solidFill>
                  <a:srgbClr val="66ff33"/>
                </a:solidFill>
                <a:latin typeface="Century Gothic"/>
              </a:rPr>
              <a:t>proceso de reflexión</a:t>
            </a:r>
            <a:r>
              <a:rPr b="1" i="1" lang="en-GB" sz="2800" spc="-1" strike="noStrike">
                <a:solidFill>
                  <a:srgbClr val="ffcc6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Nos </a:t>
            </a:r>
            <a:r>
              <a:rPr b="1" i="1" lang="en-GB" sz="2400" spc="-1" strike="noStrike" u="sng">
                <a:solidFill>
                  <a:srgbClr val="ffcc66"/>
                </a:solidFill>
                <a:uFillTx/>
                <a:latin typeface="Century Gothic"/>
              </a:rPr>
              <a:t>autoevaluamos</a:t>
            </a:r>
            <a:r>
              <a:rPr b="1" i="1" lang="en-GB" sz="2400" spc="-1" strike="noStrike">
                <a:solidFill>
                  <a:srgbClr val="ffcc66"/>
                </a:solidFill>
                <a:latin typeface="Century Gothic"/>
              </a:rPr>
              <a:t> cada vez 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miramos en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el espejo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ponemos de pie en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la bás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nos preguntamos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si tomar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ese do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decidimos 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corregir algo 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que hemos escr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analizamos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si teníamos razón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 en una disc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alguién nos critica y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decidimos defend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o mismo pasa cuando un alumno pregun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Pero cómo me ves en la cl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rees que voy bien en ge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rees que estoy en la media del gru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uáles son mis puntos fuertes / puntos floj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Cómo es qué siempre cateo en los contr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¿Por qué saco “sufis”, con todo lo que estud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86900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Tus alumnos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ya se están autoevaluando</a:t>
            </a:r>
            <a:r>
              <a:rPr b="1" lang="en-GB" sz="2000" spc="-1" strike="noStrike">
                <a:solidFill>
                  <a:srgbClr val="cc99ff"/>
                </a:solidFill>
                <a:latin typeface="Century Gothic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Algunos lo harán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más bien poco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o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a destiempo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Otros que lo harán más, pero </a:t>
            </a:r>
            <a:r>
              <a:rPr b="1" lang="en-GB" sz="2000" spc="-1" strike="noStrike" u="sng">
                <a:solidFill>
                  <a:srgbClr val="cc99ff"/>
                </a:solidFill>
                <a:uFillTx/>
                <a:latin typeface="Century Gothic"/>
              </a:rPr>
              <a:t>de forma ineficaz o irregul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dur="indefinite" fill="hold">
                      <p:stCondLst>
                        <p:cond delay="indefinite"/>
                      </p:stCondLst>
                      <p:childTnLst>
                        <p:par>
                          <p:cTn id="1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¿Qué podemos hacer para ayudar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Hacer l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objetiv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úblicos y explíc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xplicar nuestr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criteri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de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cordar una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definicione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de “progres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dicar tiempo a la reflexión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conjunta y guiada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rle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herramienta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ara guiarse a si mi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Un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scríbeme una redacción sobre tu person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¿Qué nota te darías?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¿Qué nota crees yo voy a dart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1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Necesitarías sa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Objetivos de la redac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Demostrarme cuant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djetivo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cono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Ponerlo en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Facebook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para encontrar pare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Incluirlo en una carta, solicitand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un emple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Dar una muestra de tu letra a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un grafólog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¿Escribir algo que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haga reir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a los lector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Criterios de eval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Muchos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djetivos impresio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tenid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interesant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que despierte el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 tono adecuado y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datos pertinente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al pue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scribir cualquier cosa, pero </a:t>
            </a: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que sea a 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cc66"/>
                </a:solidFill>
                <a:latin typeface="Arial"/>
              </a:rPr>
              <a:t>Anécdotas graciosas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 un tono ligero y joco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 fill="hold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 fill="hold"/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De mi profesora de lengua de 6º de Prima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66ff33"/>
                </a:solidFill>
                <a:uFillTx/>
                <a:latin typeface="Arial"/>
              </a:rPr>
              <a:t>Marking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tent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rganization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rammar and style: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5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se of vocabulary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3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pelling and neatness: 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        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Total = 20 points x 5 = ____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as tablas de autoevaluación del P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peaking (monologue)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Oral Interaction (dialogue)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Los criterios son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modulares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, permitiendo as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una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evaluación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diferenciada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 de las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</a:rPr>
              <a:t>5 destrezas</a:t>
            </a:r>
            <a:r>
              <a:rPr b="1" i="1" lang="en-GB" sz="2400" spc="-1" strike="noStrike">
                <a:solidFill>
                  <a:srgbClr val="cc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3280" y="2205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Century Gothic"/>
              </a:rPr>
              <a:t>LOS DESCRIP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cc66"/>
                </a:solidFill>
                <a:latin typeface="Arial"/>
              </a:rPr>
              <a:t>Los descrip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Se redactan en términos de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conductas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Se inspiran en un “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action-based approach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What can you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 u="sng">
                <a:solidFill>
                  <a:srgbClr val="66ff33"/>
                </a:solidFill>
                <a:uFillTx/>
                <a:latin typeface="Arial"/>
              </a:rPr>
              <a:t>DO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200" spc="-1" strike="noStrike">
                <a:solidFill>
                  <a:srgbClr val="cc00ff"/>
                </a:solidFill>
                <a:latin typeface="Arial"/>
              </a:rPr>
              <a:t>with the langua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3. Contemplan una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gama muy amplia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de 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4. Buscan un </a:t>
            </a:r>
            <a:r>
              <a:rPr b="1" i="1" lang="en-GB" sz="2200" spc="-1" strike="noStrike">
                <a:solidFill>
                  <a:srgbClr val="66ff33"/>
                </a:solidFill>
                <a:latin typeface="Arial"/>
              </a:rPr>
              <a:t>equilibrio</a:t>
            </a:r>
            <a:r>
              <a:rPr b="1" i="1" lang="en-GB" sz="2200" spc="-1" strike="noStrike">
                <a:solidFill>
                  <a:srgbClr val="ffffff"/>
                </a:solidFill>
                <a:latin typeface="Arial"/>
              </a:rPr>
              <a:t> para que sean polival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76280"/>
            <a:ext cx="828036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mpetencias gene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nocimiento declarativ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experiencia, estudios, bag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destrezas y habilidad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hac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ontrol de acciones y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mpetencia existencial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esta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ontrol de factore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competencia de aprendizaj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saber aprend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) – capacidad par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Arial"/>
              </a:rPr>
              <a:t>Competencias comunicati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lingüís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– habilidad con el sistema lingüí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socio-lingüís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- manejo de convenciones sociales/cultura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cc66"/>
                </a:solidFill>
                <a:latin typeface="Arial"/>
              </a:rPr>
              <a:t>pragmátic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- uso práctico para funciones comunic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907920"/>
            <a:ext cx="813600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Ámbitos donde ocurren distintas sit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ersonal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 (casa, familia, amigos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úblic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instituciones, lugares públicos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Educativo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escuela, formación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r>
              <a:rPr b="1" i="1" lang="en-GB" sz="2400" spc="-1" strike="noStrike">
                <a:solidFill>
                  <a:srgbClr val="66ff33"/>
                </a:solidFill>
                <a:latin typeface="Arial"/>
                <a:ea typeface="MS Gothic"/>
              </a:rPr>
              <a:t>Profesional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 (trabajo)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MS Gothic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Qué es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Es una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carpeta personal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 en la cuál los alumnos pu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(1)</a:t>
            </a:r>
            <a:r>
              <a:rPr b="1" lang="en-GB" sz="22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demonstra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, (2)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describi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 y (3) </a:t>
            </a:r>
            <a:r>
              <a:rPr b="1" lang="en-GB" sz="2200" spc="-1" strike="noStrike" u="sng">
                <a:solidFill>
                  <a:srgbClr val="ffcc66"/>
                </a:solidFill>
                <a:uFillTx/>
                <a:latin typeface="Century Gothic"/>
              </a:rPr>
              <a:t>resumir</a:t>
            </a: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las lengu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su entorno y vida cotidi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experienci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ingüísticas e intercultur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intereses y actitud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en cuanto a sus lengu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maneras de aprende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y practicar un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ejempl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de sus mejores logr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hasta el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sus propias valoracion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sus habilidades lingüíst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aracterísticas clave de los descriptores del 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197000"/>
            <a:ext cx="828036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e expresan 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términos positiv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(puedo hacer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 u="sng">
                <a:solidFill>
                  <a:srgbClr val="66ff33"/>
                </a:solidFill>
                <a:uFillTx/>
                <a:latin typeface="Arial"/>
              </a:rPr>
              <a:t>No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pon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“el nativo”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como ideal a consegu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an-lingüístic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por tanto “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gramatica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flexib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abiertos a l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daptació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y l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concre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estadísticamente fiabl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y ampliamente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rob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o son exhaustivos, pero establecen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anclajes bás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on una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espina dorsal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para la creación de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otras esca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PORQUÉ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ADAPTAR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 los descript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197000"/>
            <a:ext cx="8280360" cy="49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stán diseñados para un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úblico MUY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ben ser aplicables a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muchos ámbit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PARA QUIÉ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Ámbit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specíficos (e.g., business vs educación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Currículo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n concreto (e.g., ciclos formativos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Profesion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en particular (e.g., azafatas de vuelo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Edad y nivel de madurez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e los alum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DE QUÉ 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Simplificació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v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Elaboració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el lengua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Más distincciones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entro de los niveles (A1.1, A1.2 A1+)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ffcc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Ampliar / Diversifica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 cobertura de los supue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ADAPTANDO LOS DESCRI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8280360" cy="55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Suma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ituacion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no contemplada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tu propio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Sustrae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scriptor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no aplicabl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 tu propio 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Dividi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s niveles para registrar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rogresos más pequ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Arial"/>
              </a:rPr>
              <a:t>Multiplicar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as interpretaciones de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un descriptor en 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BUENOS DESCRIP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280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OSITIVO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definir logros, y no limi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CTION-BASED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en el </a:t>
            </a:r>
            <a:r>
              <a:rPr b="1" i="1" lang="en-GB" sz="2000" spc="-1" strike="noStrike">
                <a:solidFill>
                  <a:srgbClr val="ffcc66"/>
                </a:solidFill>
                <a:latin typeface="Arial"/>
              </a:rPr>
              <a:t>saber hacer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, y no solamente el s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CONCRETOS Y PRECIS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tareas específicas en situaciones concr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un nivel de exigencia acorde con nivel ac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evitando las redacciones muy generales / a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4.  BREVES Y MUY CONCISO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ir al grano, sin ro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CLAROS Y FÁCILES DE INTERPRETAR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para todo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EQUIPARABLES </a:t>
            </a:r>
            <a:r>
              <a:rPr b="1" lang="en-GB" sz="2000" spc="-1" strike="noStrike">
                <a:solidFill>
                  <a:srgbClr val="ffcc66"/>
                </a:solidFill>
                <a:latin typeface="Arial"/>
              </a:rPr>
              <a:t>a los otros descriptores ofi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DESCRIPTORES DUD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268280"/>
            <a:ext cx="82803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uedo leer un 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Entiendo las ideas generales, pero no capto los deta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é los nombres de los animales de gr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Entiendo los nativos cuando me hab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Puedo entender programas de televisión, pero solamente si están grabadas, para que pueda rebobinarlas cuando me pierdo o pararlas para consultar un diccion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Puedo utilizar correctamente tanto el pasado simple como el pasado continuo, incluso contrastando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No puedo seguir una conversación cuando el acento no me resulta famili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5280" y="476280"/>
            <a:ext cx="828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800080"/>
                </a:solidFill>
                <a:latin typeface="Arial"/>
              </a:rPr>
              <a:t>ESTRATEGIAS DE RED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97000"/>
            <a:ext cx="82803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ACTION VERB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can read, can talk about, can expres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QUALIFYING PHRAS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usually, most, some, casi siempr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SITUATIONAL PROVIS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(…if / when / provided…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TACIT UNDERSTANDINGS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for a child / at this ag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EXAMPLES OF TEXTS / CONTEXT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…such as…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cc00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cc00ff"/>
                </a:solidFill>
                <a:latin typeface="Arial"/>
              </a:rPr>
              <a:t>ILLUSTRATIVE SENTENCES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odelo Holandé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249"/>
              </a:spcBef>
              <a:buClr>
                <a:srgbClr val="00ff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>
                <a:solidFill>
                  <a:srgbClr val="00ff00"/>
                </a:solidFill>
                <a:latin typeface="Arial"/>
              </a:rPr>
              <a:t>BLANKET / GROUPED CONDITIONS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odelo Francé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 u="sng">
                <a:solidFill>
                  <a:srgbClr val="ffcc66"/>
                </a:solidFill>
                <a:uFillTx/>
                <a:latin typeface="Century Gothic"/>
              </a:rPr>
              <a:t>TAREA EN GRU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Infa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3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5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3º de la 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46a3aa"/>
              </a:buClr>
              <a:buFont typeface="Wingdings" charset="2"/>
              <a:buChar char="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46a3aa"/>
                </a:solidFill>
                <a:latin typeface="Century Gothic"/>
              </a:rPr>
              <a:t>1º de E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989000"/>
            <a:ext cx="5184720" cy="3426840"/>
          </a:xfrm>
          <a:prstGeom prst="rect">
            <a:avLst/>
          </a:prstGeom>
          <a:solidFill>
            <a:srgbClr val="46a3a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Analiza una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unidad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. Escribe descriptores en base a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conte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a tus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propias prioridades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en la 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. Basa tus descriptores e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nivel apropiado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l PEL / Marc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. Consulta los descriptores de los nive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l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MCE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DIALANG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para gui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 u="sng">
                <a:solidFill>
                  <a:srgbClr val="ffcc66"/>
                </a:solidFill>
                <a:uFillTx/>
                <a:latin typeface="Century Gothic"/>
              </a:rPr>
              <a:t>RECURSOS &amp;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ortfolio Europeo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Distintos mod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ortfolio Europeo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Base de datos de descri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Marco Común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Escalas ilustrativas del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Marco Común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Base de datos de descrip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DIALANG Project 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Escales equiparables al M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ALTE Can-DO Project </a:t>
            </a:r>
            <a:r>
              <a:rPr b="1" i="1" lang="en-GB" sz="1800" spc="-1" strike="noStrike">
                <a:solidFill>
                  <a:srgbClr val="ffcc66"/>
                </a:solidFill>
                <a:latin typeface="Century Gothic"/>
              </a:rPr>
              <a:t>– 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Association of Language Testers in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&gt; Peter Lenz &amp; Günter Schnei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cc66"/>
                </a:solidFill>
                <a:latin typeface="Century Gothic"/>
              </a:rPr>
              <a:t>	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Guide for Developers of European Language Portfolios (2002)</a:t>
            </a:r>
            <a:r>
              <a:rPr b="1" i="1" lang="en-GB" sz="1800" spc="-1" strike="noStrike">
                <a:solidFill>
                  <a:srgbClr val="00ff00"/>
                </a:solidFill>
                <a:latin typeface="Century Goth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551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Arial"/>
              </a:rPr>
              <a:t>http://robseville.blogspo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9600" spc="-1" strike="noStrike">
                <a:solidFill>
                  <a:srgbClr val="ffcc66"/>
                </a:solidFill>
                <a:latin typeface="Arial"/>
              </a:rPr>
              <a:t>F</a:t>
            </a:r>
            <a:r>
              <a:rPr b="1" i="1" lang="en-GB" sz="9600" spc="-1" strike="noStrike">
                <a:solidFill>
                  <a:srgbClr val="cc00ff"/>
                </a:solidFill>
                <a:latin typeface="Arial"/>
              </a:rPr>
              <a:t>I</a:t>
            </a:r>
            <a:r>
              <a:rPr b="1" i="1" lang="en-GB" sz="9600" spc="-1" strike="noStrike">
                <a:solidFill>
                  <a:srgbClr val="66ff33"/>
                </a:solidFill>
                <a:latin typeface="Arial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Arial"/>
              </a:rPr>
              <a:t>¿Qué contien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El dossier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donde se demuestr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Trabaj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ilustran su nivel actual en la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Recuerdo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significactivos de otras lenguas y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Constancia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oficial de sus logros (diplomas/certificados)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57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La biografía lingüística,</a:t>
            </a: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donde se describe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experiencias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en distintas lenguas y cultur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maner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aprender y utilizar distintas lengu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estilos y estrategi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para aprender y comunicar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s valoraciones</a:t>
            </a:r>
            <a:r>
              <a:rPr b="1" lang="en-GB" sz="2000" spc="-1" strike="noStrike">
                <a:solidFill>
                  <a:srgbClr val="99ff99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de su nivel en las diferentes len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Century Gothic"/>
              </a:rPr>
              <a:t>El pasaporte, donde se resu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Las lengu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se utilizan en su entorn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Los certificados y diploma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ha consegui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Su nivel general</a:t>
            </a:r>
            <a:r>
              <a:rPr b="1" lang="en-GB" sz="2000" spc="-1" strike="noStrike">
                <a:solidFill>
                  <a:srgbClr val="99ff99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a través de autoevaluaciones glob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ara qué sirv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66ff33"/>
                </a:solidFill>
                <a:latin typeface="Century Gothic"/>
              </a:rPr>
              <a:t>Para los alumn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hacerles ve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que las otras lenguas son “real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recordarles</a:t>
            </a:r>
            <a:r>
              <a:rPr b="1" lang="en-GB" sz="20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para qué sirve aprender una len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motiv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, al recordarles lo mucho que s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anim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reflexionar sobre sus progr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ayud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formular sus propios obje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inspira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 tomar la iniciativa en sus 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66ff33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entury Gothic"/>
              </a:rPr>
              <a:t>Puede servirles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“</a:t>
            </a:r>
            <a:r>
              <a:rPr b="1" i="1" lang="en-GB" sz="2000" spc="-1" strike="noStrike">
                <a:solidFill>
                  <a:srgbClr val="ffffff"/>
                </a:solidFill>
                <a:latin typeface="Century Gothic"/>
              </a:rPr>
              <a:t>book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” para presumir de sus log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ara qué sirve el 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Para noso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d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mucha información muy útil sobre los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facilit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a coordinación entre etapas y niv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mejor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la comunicación con alumnos y pa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sirvi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de apoyo documental para el asesor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foment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actitudes de responsabilidad y resp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convertirse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en un proyecto a medio / largo plaz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30000"/>
              </a:lnSpc>
              <a:spcBef>
                <a:spcPts val="499"/>
              </a:spcBef>
              <a:buClr>
                <a:srgbClr val="cc00ff"/>
              </a:buClr>
              <a:buFont typeface="Century Gothic"/>
              <a:buChar char="-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ff"/>
                </a:solidFill>
                <a:latin typeface="Century Gothic"/>
              </a:rPr>
              <a:t>Puede inspirar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muchas actividades prácticas en el a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cc66"/>
                </a:solidFill>
                <a:latin typeface="Century Gothic"/>
              </a:rPr>
              <a:t>La biografía lingüí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La biografía lingüística es un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historial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donde los alum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describe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sus experiencias lingüísticas y </a:t>
            </a:r>
            <a:r>
              <a:rPr b="1" lang="en-GB" sz="2200" spc="-1" strike="noStrike">
                <a:solidFill>
                  <a:srgbClr val="ffcc66"/>
                </a:solidFill>
                <a:latin typeface="Arial"/>
              </a:rPr>
              <a:t>demuestran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su trayectoría de aprendiza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lengua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maternas, extranjeras, ambientale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manera de aprender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estilos, preferencias, estrategia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2200" spc="-1" strike="noStrike" u="sng">
                <a:solidFill>
                  <a:srgbClr val="cc00ff"/>
                </a:solidFill>
                <a:uFillTx/>
                <a:latin typeface="Arial"/>
              </a:rPr>
              <a:t>Las cosas que saben hacer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a través de autoevaluacione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66ff33"/>
                </a:solidFill>
                <a:latin typeface="Arial"/>
              </a:rPr>
              <a:t>Sus planes de aprendizaje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(marcándo sus objetivos)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8002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Century Gothic"/>
              </a:rPr>
              <a:t>¿Qué sé hac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cc66"/>
                </a:solidFill>
                <a:latin typeface="Century Gothic"/>
              </a:rPr>
              <a:t>en mis lenguas?</a:t>
            </a:r>
            <a:r>
              <a:rPr b="1" lang="en-GB" sz="5400" spc="-1" strike="noStrike">
                <a:solidFill>
                  <a:srgbClr val="ffcc66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Autoevalu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cc00ff"/>
                </a:solidFill>
                <a:latin typeface="Century Gothic"/>
              </a:rPr>
              <a:t>en la biografía lingüística</a:t>
            </a:r>
            <a:r>
              <a:rPr b="1" i="1" lang="en-GB" sz="5400" spc="-1" strike="noStrike">
                <a:solidFill>
                  <a:srgbClr val="cc00ff"/>
                </a:solidFill>
                <a:latin typeface="Century Gothic"/>
              </a:rPr>
              <a:t> </a:t>
            </a:r>
            <a:r>
              <a:rPr b="1" i="1" lang="en-GB" sz="2400" spc="-1" strike="noStrike">
                <a:solidFill>
                  <a:srgbClr val="cc00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Century Gothic"/>
              </a:rPr>
              <a:t>¿Por qué la autoevalu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Si no sabes adónde quieres i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r>
              <a:rPr b="1" i="1" lang="en-GB" sz="2400" spc="-1" strike="noStrike">
                <a:solidFill>
                  <a:srgbClr val="ffffff"/>
                </a:solidFill>
                <a:latin typeface="Century Gothic"/>
              </a:rPr>
              <a:t>lo más probable es que no vas a llegar nunca”.</a:t>
            </a:r>
            <a:r>
              <a:rPr b="1" lang="en-GB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Century Gothic"/>
              </a:rPr>
              <a:t>Yogi Berra (jugador de béisbol)</a:t>
            </a:r>
            <a:r>
              <a:rPr b="1" lang="en-GB" sz="1800" spc="-1" strike="noStrike">
                <a:solidFill>
                  <a:srgbClr val="66ff33"/>
                </a:solidFill>
                <a:latin typeface="Century Gothic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Pero para decidir dónde vas a ir </a:t>
            </a:r>
            <a:r>
              <a:rPr b="1" lang="en-GB" sz="2400" spc="-1" strike="noStrike" u="sng">
                <a:solidFill>
                  <a:srgbClr val="cc00ff"/>
                </a:solidFill>
                <a:uFillTx/>
                <a:latin typeface="Century Gothic"/>
              </a:rPr>
              <a:t>en el futuro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…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tienes que saber dónde estás </a:t>
            </a:r>
            <a:r>
              <a:rPr b="1" lang="en-GB" sz="2400" spc="-1" strike="noStrike" u="sng">
                <a:solidFill>
                  <a:srgbClr val="cc00ff"/>
                </a:solidFill>
                <a:uFillTx/>
                <a:latin typeface="Century Gothic"/>
              </a:rPr>
              <a:t>ahora</a:t>
            </a:r>
            <a:r>
              <a:rPr b="1" lang="en-GB" sz="2400" spc="-1" strike="noStrike">
                <a:solidFill>
                  <a:srgbClr val="cc00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camera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</dc:creator>
  <dc:description/>
  <dc:language>en-US</dc:language>
  <cp:lastModifiedBy>Robert</cp:lastModifiedBy>
  <cp:revision>0</cp:revision>
  <dc:subject/>
  <dc:title>El Portfolio Europeo  de las Lenguas</dc:title>
</cp:coreProperties>
</file>